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697-C26F-4454-9B6D-4A9A0A88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5D7-15D6-4445-8EA0-3179F850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BB5-3DF4-4CAE-861E-F3C34F9E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FFC-5FD6-47F8-984B-EE399ADA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AD5C9-2BB7-4D4E-B4FB-0C68E09D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953D4-4B2D-43D4-B792-5B8F9DD0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ABC28-47DF-4892-B26D-CEBC3B3C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9080D-33FE-4B58-8B85-12BCFC32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EEFD2-2096-47A1-95EF-E7710D2B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93832-AAAD-424F-B508-E1C09681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3EEAF-4089-490B-B00D-4134A852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61F-6AD3-4434-9974-E9FCEF85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7E3B1-47E3-45CE-BD62-658C1DD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C3138-4D8C-4922-8275-B22837DE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9FA8D-7E0F-47F7-83E8-84E1F86D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4FB59-CC6B-4BA9-82FA-F05812BE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CAF69-8496-41D8-AA33-4273579F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1E0-0C16-48B1-A6B5-BA0DE03A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F83-1861-4255-ACF1-A0F447EB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442-F7FA-4D55-979B-82B48794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18C-3E31-4DFB-97CE-78D89452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082-9D19-42E0-80AF-9F8F9297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E7B-434B-4AB9-80F3-E0EEF3E9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0C7-3CB0-47FE-B8C4-7EF0AA9D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6033-25ED-4739-8A0D-80BDF3A79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F7AE-3B0B-47A0-9777-8FA5168A1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Beverly Br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Garaj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garaje. Es muy grande y estupe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2435400"/>
            <a:ext cx="40384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omedor. Es muy bonito y mod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2617920"/>
            <a:ext cx="4038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omedor. Es muy bonito y mod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2617920"/>
            <a:ext cx="40384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m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. Es muy grande y bel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cocina. Es, bonita y mode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sala. La sala es muy fabulosa y antigu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38760" y="2660760"/>
            <a:ext cx="4000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ño. Es muy nuevo y gran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4648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uarto. Es muy impresionante y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038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Jardi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jardin. Es muy magnifico y bon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2448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patio. Es muy lujoso y bel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374920"/>
            <a:ext cx="4038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9:24Z</dcterms:created>
  <dc:creator>brionbev</dc:creator>
  <dc:description/>
  <dc:language>en-US</dc:language>
  <cp:lastModifiedBy>brionbev</cp:lastModifiedBy>
  <dcterms:modified xsi:type="dcterms:W3CDTF">2013-04-03T17:57:50Z</dcterms:modified>
  <cp:revision>10</cp:revision>
  <dc:subject/>
  <dc:title>La Casa</dc:title>
</cp:coreProperties>
</file>